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1CC-F9F7-485D-B2FC-E6D61A50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928-686C-4A16-83A3-29B3B65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1EB-0888-4A96-8EE1-58862BCD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F01-D9AB-40CA-84C6-70762581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F57-F6EC-43BA-B120-F09B061C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304-AC8D-4D9E-8B27-2346B09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145-33AC-4EF1-8A97-B235EF3D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65B-46E8-4E5C-B016-9F9CEB3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837-7D0B-4ABB-80AF-F81128A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AA8-0FF2-406D-9D1F-5A0FDA1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B12-6BD4-4ACF-B136-658BE2A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D47-79E8-4993-8775-EA33D49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181-5FAD-420D-BE16-26193A530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1120" y="1147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</a:rPr>
              <a:t>The sa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999160" y="35438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w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3961440" y="25858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the major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321160" y="287640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</a:rPr>
              <a:t>The pa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370640" y="28447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The happi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596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 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7960" y="79848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he ballo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ca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The wed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41800" y="46497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da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1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380640" y="32446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marvelo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258240" y="38145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decor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 ki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5027040" y="19940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321800" y="463068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alm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219800" y="22287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ext/fo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every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892840" y="406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5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6811200" y="150192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nd so it was 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835080" y="3913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To begin w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538040" y="3570120"/>
            <a:ext cx="116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Although/even th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6851520" y="432576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306120" y="46818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To get alo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we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162400"/>
            <a:ext cx="3760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Stephanie Prine</cp:lastModifiedBy>
  <dcterms:modified xsi:type="dcterms:W3CDTF">2013-05-22T19:23:31Z</dcterms:modified>
  <cp:revision>22</cp:revision>
  <dc:subject/>
  <dc:title>PowerPoint Presentation</dc:title>
</cp:coreProperties>
</file>